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C94-34EA-4C22-A186-41D3DCA3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673-A267-497B-944A-9F4E54B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0C5-9638-4CA7-BBB9-5E10E025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F0E-1726-4EE4-A1F1-98682992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FC9A2-DA93-4928-AAF4-CAF3B2F1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08733-7479-40C4-8562-E66E79FF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0E58E-98E0-49FE-AC04-157FBC4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1A03-ADA4-4BD4-A0FB-3F768196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335DF-13E4-4542-AF03-3A20E7D7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0D124-74BE-466A-AA72-B67BB224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AE078-9900-4268-A457-47A8543B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69F-F818-482D-BC2D-10496A2E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069B7-50CA-456F-B207-134F9AB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A113D-432D-4FB4-B977-6792F7E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3DC67-5BED-494E-A992-DB4CFAE2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25A9D-F005-43DB-8FA0-D7B9F4F5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374E5-B480-45D6-ACE9-FB82A8F7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69B-DA13-4866-8C55-93D5038F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D60-3E36-4893-A247-1A33707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3BF-0644-4A2A-B40E-CA3D9801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27A-783A-4CF7-8B7F-6175F97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BF9-F687-4466-B9D1-5647AF3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166-6D08-4379-9EF9-DE3CAB7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181-D213-43E2-A9F1-58FA15D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342-F8AE-4E4B-9C69-B4F2D8E86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C992-B7DC-46B9-A967-1D7003A51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Bridging Nation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 we stand on a bridge leading from our own world to a united  community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y Murner/Baldw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the Bridging Nations activity abou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your teams method for building the bridge and materials u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LECTION CON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results of your bridge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How much weight did it hold, how much did it cost, are there any flaws in your bri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success of your bri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5:39:33Z</dcterms:created>
  <dc:creator>OSU</dc:creator>
  <dc:description/>
  <dc:language>en-US</dc:language>
  <cp:lastModifiedBy>OSU</cp:lastModifiedBy>
  <dcterms:modified xsi:type="dcterms:W3CDTF">2008-07-21T16:36:46Z</dcterms:modified>
  <cp:revision>3</cp:revision>
  <dc:subject/>
  <dc:title>Bridging Nations</dc:title>
</cp:coreProperties>
</file>